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ED4-C4E3-45A3-BFA1-1A641BA4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EDA-E25F-498A-85A1-84CA6D9E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2B34-E10E-4761-B496-3CEB9E59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849-28BD-430C-B516-1D67A3A3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847-5A56-4316-845F-3E4D425F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F68-2388-4060-BA36-99C4255B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5C56-2632-4BCE-A595-3DCC8DBC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09C-C245-433A-8D7F-FC64ED70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BFA0-276A-4D87-950D-49F484C7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E7B9-1EB6-47F9-8D22-C780FB39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4699-6571-4415-B5B9-0CDF7086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BBD-D84A-4635-A202-C0BFA9E3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1D2D-D9C4-4D04-AADC-C43416A07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Large Sample Test for IDR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in Person-Time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ohort Stud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620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620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7086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7162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315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1520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73281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2388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38880" cy="1276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14400" y="2673360"/>
            <a:ext cx="723888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059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77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38080" y="5029200"/>
            <a:ext cx="739152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2946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4267080" cy="1447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400800" y="434340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90720" y="4343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4190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7920" y="4267080"/>
            <a:ext cx="548640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62120" y="472428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781680" y="4724280"/>
            <a:ext cx="167652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76176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62120" y="5638680"/>
            <a:ext cx="7696080" cy="762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62520" y="4038480"/>
            <a:ext cx="28191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4T02:00:42Z</dcterms:modified>
  <cp:revision>41</cp:revision>
  <dc:subject/>
  <dc:title>PowerPoint Presentation</dc:title>
</cp:coreProperties>
</file>